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BAC-0DE5-478E-82F4-50061B8B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D29-6A0C-4BB7-9D27-1447A4C3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38E-ACF3-422D-8C57-955E36E7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314-E971-4494-9B63-B721EDC2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F2A5-909B-40FE-9877-24F38386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0470-0164-4CFA-A8BE-C7DA3D84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3E69-CEB3-4DBE-BC6C-29B05B4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26B2-CD3B-4B75-8D9B-444E594D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554D-D304-4546-9524-7EC98AF6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A29B-EB79-444F-A7E2-3AA07BC8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6D82-B89B-497B-9B59-0C0F1454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987-8A30-48C0-9A3A-EFF9A4E8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87DA-EA85-49EC-8848-188D1B5E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854B-C0CD-4E73-A7C1-7358CC00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AE8C-BEDC-427A-8FBD-6484C6B7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62EE-1EFE-46BF-9E7A-5A4BC0F9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A6E6-3AD7-4384-953E-96489790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D47-6BF2-4B27-AC17-2129A555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735-0CA9-4479-91F7-38D6B01B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E21-65B4-4A96-A6A0-4A5BF3B2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70A-BB60-4FE4-9ECE-28EE0A97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021-BC91-41AE-AC70-DC6A4881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297-D55F-4895-9841-427B48F0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B2C-3B6C-45BA-9719-2B0ADBD5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64C1-9FAC-4A5E-9EEE-A55C5E4D33A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D3C7-5EAD-4E6E-9775-045457CC001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toelektrický jav (FEJ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292929"/>
                </a:solidFill>
                <a:latin typeface="Arial"/>
              </a:rPr>
              <a:t>Fotó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292929"/>
                </a:solidFill>
                <a:latin typeface="Arial"/>
              </a:rPr>
              <a:t>Einsteinova rovnica FEJ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Čo je to fotoelektrický j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platničku nabijeme záporným nábojo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ultrafialové žiarenie má schopnosť uvoľniť zo zinku elektróny, kým žiarenie z viditeľnej oblasti túto schopnosť nemá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uvoľnenie elektrónov nenastane ani pri zvýšení intenzity         </a:t>
            </a:r>
            <a:r>
              <a:rPr b="0" lang="sk-SK" sz="1400" spc="-1" strike="noStrike">
                <a:solidFill>
                  <a:srgbClr val="39bb11"/>
                </a:solidFill>
                <a:latin typeface="Arial"/>
              </a:rPr>
              <a:t>(chlapča vs borec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pre každý kov existuje istá </a:t>
            </a:r>
            <a:r>
              <a:rPr b="1" lang="sk-SK" sz="2400" spc="-1" strike="noStrike">
                <a:solidFill>
                  <a:srgbClr val="292929"/>
                </a:solidFill>
                <a:latin typeface="Arial"/>
              </a:rPr>
              <a:t>hraničná frekvencia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žiarenie s frekvenciou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&gt;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uvoľňuje elektróny z kovu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žiarenie s frekvenciou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&lt;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f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ich neuvoľňu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54440" cy="3398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1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 – elektroskop,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 – zinková platnička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Z – zdroj žiareni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asická fyzika a F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Klasická fyzika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spojito prichádzajúce žiarenie sa podobá </a:t>
            </a:r>
            <a:r>
              <a:rPr b="0" lang="sk-SK" sz="2000" spc="-1" strike="noStrike">
                <a:solidFill>
                  <a:srgbClr val="39bb11"/>
                </a:solidFill>
                <a:latin typeface="Arial"/>
              </a:rPr>
              <a:t>tečúcej vode</a:t>
            </a: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 bez viditeľných prerušení; väčší prúd vody zodpovedá väčšej intenzi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dopadajúce žiarenie elektróny v kove rozkmitá a pri zvyšovaní intenzity žiarenia by mali byť schopné opustiť ko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analogicky je to v príbehu o repe – nevládal dedko, pomohla babka a ďalší až repu (= elektrón) vytrhl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Vysvetlenie (r. 1900) - nemecký fyzik MAX PLANCK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predpoklad – steny čierneho telesa (zdroj žiarenia) môžu prijímať a vysielať žiarenie iba po istých </a:t>
            </a: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dávkach</a:t>
            </a: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 „kvantách“ energie </a:t>
            </a:r>
            <a:r>
              <a:rPr b="0" i="1" lang="sk-SK" sz="2000" spc="-1" strike="noStrike">
                <a:solidFill>
                  <a:srgbClr val="292929"/>
                </a:solidFill>
                <a:latin typeface="Arial"/>
              </a:rPr>
              <a:t>E </a:t>
            </a: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i="1" lang="sk-SK" sz="2000" spc="-1" strike="noStrike">
                <a:solidFill>
                  <a:srgbClr val="292929"/>
                </a:solidFill>
                <a:latin typeface="Arial"/>
              </a:rPr>
              <a:t>h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nespojito šíriace žiarenie sa podobá dažďu prichádzajúcemu po kvapkách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9933"/>
                </a:solidFill>
                <a:latin typeface="Arial"/>
              </a:rPr>
              <a:t>preto kvapka „dedko“ nemôže čakať na pomoc kvapky „babka“ a iných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9933"/>
                </a:solidFill>
                <a:latin typeface="Arial"/>
              </a:rPr>
              <a:t>rozhoduje iba veľkosť kvapky „dedko“ a tá buď má dosť energie a repu (= elektrón) vytrhne alebo je slabá a repu nevytrhne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Einsteinova teória F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energia žiarenia „… nie je rozložená v priestore spojite, ale sa skladá z konečného počtu v priestore lokalizovaných </a:t>
            </a:r>
            <a:r>
              <a:rPr b="1" lang="sk-SK" sz="2400" spc="-1" strike="noStrike">
                <a:solidFill>
                  <a:srgbClr val="292929"/>
                </a:solidFill>
                <a:latin typeface="Arial"/>
              </a:rPr>
              <a:t>kvánt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…, ktoré </a:t>
            </a:r>
            <a:r>
              <a:rPr b="0" lang="sk-SK" sz="2400" spc="-1" strike="noStrike">
                <a:solidFill>
                  <a:srgbClr val="0066ff"/>
                </a:solidFill>
                <a:latin typeface="Arial"/>
              </a:rPr>
              <a:t>môžu byť pohltené a vyžiarené len ako celky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kvantá (kvapky) - </a:t>
            </a:r>
            <a:r>
              <a:rPr b="0" lang="sk-SK" sz="2400" spc="-1" strike="noStrike">
                <a:solidFill>
                  <a:srgbClr val="999933"/>
                </a:solidFill>
                <a:latin typeface="Arial"/>
              </a:rPr>
              <a:t>fotóny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majú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4880" indent="-3502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energiu </a:t>
            </a:r>
            <a:r>
              <a:rPr b="1" i="1" lang="sk-SK" sz="2000" spc="-1" strike="noStrike">
                <a:solidFill>
                  <a:srgbClr val="39bb11"/>
                </a:solidFill>
                <a:latin typeface="Arial"/>
              </a:rPr>
              <a:t>E </a:t>
            </a: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= </a:t>
            </a:r>
            <a:r>
              <a:rPr b="1" i="1" lang="sk-SK" sz="2000" spc="-1" strike="noStrike">
                <a:solidFill>
                  <a:srgbClr val="39bb11"/>
                </a:solidFill>
                <a:latin typeface="Arial"/>
              </a:rPr>
              <a:t>hf</a:t>
            </a:r>
            <a:r>
              <a:rPr b="1" i="1" lang="sk-SK" sz="2000" spc="-1" strike="noStrike">
                <a:solidFill>
                  <a:srgbClr val="99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94880" indent="-3502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999933"/>
                </a:solidFill>
                <a:latin typeface="Arial"/>
              </a:rPr>
              <a:t>hybnosť </a:t>
            </a:r>
            <a:r>
              <a:rPr b="1" i="1" lang="sk-SK" sz="2000" spc="-1" strike="noStrike">
                <a:solidFill>
                  <a:srgbClr val="39bb11"/>
                </a:solidFill>
                <a:latin typeface="Arial"/>
              </a:rPr>
              <a:t>p </a:t>
            </a: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= </a:t>
            </a:r>
            <a:r>
              <a:rPr b="1" i="1" lang="sk-SK" sz="2000" spc="-1" strike="noStrike">
                <a:solidFill>
                  <a:srgbClr val="39bb11"/>
                </a:solidFill>
                <a:latin typeface="Arial"/>
              </a:rPr>
              <a:t>E/c</a:t>
            </a:r>
            <a:r>
              <a:rPr b="1" i="1" lang="sk-SK" sz="2000" spc="-1" strike="noStrike">
                <a:solidFill>
                  <a:srgbClr val="999933"/>
                </a:solidFill>
                <a:latin typeface="Arial"/>
              </a:rPr>
              <a:t> (h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≈ 6,63·10</a:t>
            </a:r>
            <a:r>
              <a:rPr b="1" lang="sk-SK" sz="2000" spc="-1" strike="noStrike" baseline="30000">
                <a:solidFill>
                  <a:srgbClr val="999933"/>
                </a:solidFill>
                <a:latin typeface="Arial"/>
              </a:rPr>
              <a:t>−34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J·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každý fotón odovzdá celú svoju energiu jedinému elektrón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časť tejto energie sa spotrebuje na uvoľnenie elektrónu z kovu - to je výstupná práca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W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v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zvyšok ostane elektrónu ako kinetická energ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hraničná frekvencia je daná vzťahom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hf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= </a:t>
            </a:r>
            <a:r>
              <a:rPr b="0" i="1" lang="sk-SK" sz="2400" spc="-1" strike="noStrike">
                <a:solidFill>
                  <a:srgbClr val="292929"/>
                </a:solidFill>
                <a:latin typeface="Arial"/>
              </a:rPr>
              <a:t>W</a:t>
            </a:r>
            <a:r>
              <a:rPr b="0" lang="sk-SK" sz="2400" spc="-1" strike="noStrike" baseline="-25000">
                <a:solidFill>
                  <a:srgbClr val="29292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04000" y="4869000"/>
            <a:ext cx="234000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J v prax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4356000" cy="2822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52320" y="5516640"/>
            <a:ext cx="34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chéma expozimetr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 – polovodič, B – zdroj napätia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 – odpor, G – galvanome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700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nútorný fotoelektrický jav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- experi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464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V niektorých polovodičoch sú pri izbovej teplote všetky elektróny pri atómoch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Ak konce polovodiča priložíme k batérii, obvodom nebude prechádzať takmer žiadny prúd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292929"/>
                </a:solidFill>
                <a:latin typeface="Arial"/>
              </a:rPr>
              <a:t>Žiarenie uvoľní niektoré elektróny z atómov a obvodom bude prechádzať prú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9bb11"/>
                </a:solidFill>
                <a:latin typeface="Wingdings"/>
                <a:ea typeface="Wingdings"/>
              </a:rPr>
              <a:t></a:t>
            </a:r>
            <a:r>
              <a:rPr b="0" lang="sk-SK" sz="2400" spc="-1" strike="noStrike">
                <a:solidFill>
                  <a:srgbClr val="39bb11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39bb11"/>
                </a:solidFill>
                <a:latin typeface="Arial"/>
              </a:rPr>
              <a:t>kopírk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ešenie úl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Výstupná práca pre sodík je 2,1 eV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Aká je hraničná frekvencia sodíka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292929"/>
                </a:solidFill>
                <a:latin typeface="Arial"/>
              </a:rPr>
              <a:t>S akou energiou budú vyletovať elektróny z povrchu sodíkovej katódy, ak na ňu dopadá ultrafialové žiarenie s vlnovou dĺžkou 300 nm? [2 eV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4880" y="3860640"/>
            <a:ext cx="62701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9bb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Frekvencia žiarenia a energia fotónov: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f = c/</a:t>
            </a:r>
            <a:r>
              <a:rPr b="1" lang="el-GR" sz="2000" spc="-1" strike="noStrike">
                <a:solidFill>
                  <a:srgbClr val="999933"/>
                </a:solidFill>
                <a:latin typeface="Arial"/>
                <a:ea typeface="Arial"/>
              </a:rPr>
              <a:t>λ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  <a:ea typeface="Arial"/>
              </a:rPr>
              <a:t>= 10</a:t>
            </a:r>
            <a:r>
              <a:rPr b="1" lang="sk-SK" sz="2000" spc="-1" strike="noStrike" baseline="30000">
                <a:solidFill>
                  <a:srgbClr val="292929"/>
                </a:solidFill>
                <a:latin typeface="Arial"/>
                <a:ea typeface="Arial"/>
              </a:rPr>
              <a:t>15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  <a:ea typeface="Arial"/>
              </a:rPr>
              <a:t>Hz;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E = h.f 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</a:rPr>
              <a:t>= 6,63.10</a:t>
            </a:r>
            <a:r>
              <a:rPr b="1" lang="sk-SK" sz="2000" spc="-1" strike="noStrike" baseline="30000">
                <a:solidFill>
                  <a:srgbClr val="292929"/>
                </a:solidFill>
                <a:latin typeface="Arial"/>
              </a:rPr>
              <a:t>-19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</a:rPr>
              <a:t>J 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= 4,1eV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39bb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Hraničná frekvencia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f</a:t>
            </a:r>
            <a:r>
              <a:rPr b="1" lang="sk-SK" sz="2000" spc="-1" strike="noStrike" baseline="-25000">
                <a:solidFill>
                  <a:srgbClr val="999933"/>
                </a:solidFill>
                <a:latin typeface="Arial"/>
              </a:rPr>
              <a:t>0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= W</a:t>
            </a:r>
            <a:r>
              <a:rPr b="1" lang="sk-SK" sz="2000" spc="-1" strike="noStrike" baseline="-25000">
                <a:solidFill>
                  <a:srgbClr val="999933"/>
                </a:solidFill>
                <a:latin typeface="Arial"/>
              </a:rPr>
              <a:t>v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/h </a:t>
            </a:r>
            <a:r>
              <a:rPr b="1" lang="sk-SK" sz="2000" spc="-1" strike="noStrike">
                <a:solidFill>
                  <a:srgbClr val="292929"/>
                </a:solidFill>
                <a:latin typeface="Arial"/>
              </a:rPr>
              <a:t>= 2,1.1,602.10</a:t>
            </a:r>
            <a:r>
              <a:rPr b="1" lang="sk-SK" sz="1800" spc="-1" strike="noStrike" baseline="30000">
                <a:solidFill>
                  <a:srgbClr val="292929"/>
                </a:solidFill>
                <a:latin typeface="Arial"/>
              </a:rPr>
              <a:t>-19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J/ 6,63·10</a:t>
            </a:r>
            <a:r>
              <a:rPr b="1" lang="sk-SK" sz="1800" spc="-1" strike="noStrike" baseline="30000">
                <a:solidFill>
                  <a:srgbClr val="292929"/>
                </a:solidFill>
                <a:latin typeface="Arial"/>
              </a:rPr>
              <a:t>−34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J·s = 5,549. 10</a:t>
            </a:r>
            <a:r>
              <a:rPr b="1" lang="sk-SK" sz="1800" spc="-1" strike="noStrike" baseline="30000">
                <a:solidFill>
                  <a:srgbClr val="292929"/>
                </a:solidFill>
                <a:latin typeface="Arial"/>
              </a:rPr>
              <a:t>15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H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9bb11"/>
                </a:solidFill>
                <a:latin typeface="Arial"/>
              </a:rPr>
              <a:t>Kinetická energia: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E</a:t>
            </a:r>
            <a:r>
              <a:rPr b="1" lang="sk-SK" sz="2000" spc="-1" strike="noStrike" baseline="-25000">
                <a:solidFill>
                  <a:srgbClr val="999933"/>
                </a:solidFill>
                <a:latin typeface="Arial"/>
              </a:rPr>
              <a:t>k </a:t>
            </a:r>
            <a:r>
              <a:rPr b="1" lang="sk-SK" sz="2000" spc="-1" strike="noStrike">
                <a:solidFill>
                  <a:srgbClr val="999933"/>
                </a:solidFill>
                <a:latin typeface="Arial"/>
              </a:rPr>
              <a:t>= </a:t>
            </a:r>
            <a:r>
              <a:rPr b="1" lang="sk-SK" sz="1800" spc="-1" strike="noStrike">
                <a:solidFill>
                  <a:srgbClr val="999933"/>
                </a:solidFill>
                <a:latin typeface="Arial"/>
              </a:rPr>
              <a:t>E -  W</a:t>
            </a:r>
            <a:r>
              <a:rPr b="1" lang="sk-SK" sz="1800" spc="-1" strike="noStrike" baseline="-25000">
                <a:solidFill>
                  <a:srgbClr val="999933"/>
                </a:solidFill>
                <a:latin typeface="Arial"/>
              </a:rPr>
              <a:t>V </a:t>
            </a:r>
            <a:r>
              <a:rPr b="1" lang="sk-SK" sz="1800" spc="-1" strike="noStrike">
                <a:solidFill>
                  <a:srgbClr val="292929"/>
                </a:solidFill>
                <a:latin typeface="Arial"/>
              </a:rPr>
              <a:t>= 2eV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4:08:48Z</dcterms:created>
  <dc:creator>Jozef Szmolka</dc:creator>
  <dc:description/>
  <dc:language>en-US</dc:language>
  <cp:lastModifiedBy>učiteľ</cp:lastModifiedBy>
  <dcterms:modified xsi:type="dcterms:W3CDTF">2008-06-23T23:16:25Z</dcterms:modified>
  <cp:revision>7</cp:revision>
  <dc:subject/>
  <dc:title>Fotoelektrický jav (FEJ)</dc:title>
</cp:coreProperties>
</file>